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6F23-CB39-45C6-9DA2-518B70E5E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24DA-603C-4859-8011-E1A430EFB74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5BA1-E5B8-4A3F-B0BC-541B0FBDCB0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2859-C9C6-4DA2-B5A3-4BED07A9679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: (two settings: Long Island - her hometown; Summer house in Delaware River and Branches in Upstate New York: where Steven lived; some place by the water – Josi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ouse; Characters: Hollis, Mustard Women, Steven, The Old Man, Josie) ; Problem: Hollis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have a family (she was abandoned on p. 48); longs to belong; some issue with Steven and how she messed everything up (p. 29); Sh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starting to love Josie and to feel important in life, but Josie forgets things (Ch. 3, p. 31); The Old Man sees her strengths also as an artist.  Authors craft: reveals character through two formats (Some chapters through her journal/thoughts; and others through her interactions with other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D2DF-0158-4DB7-9596-A0131F0864F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0CC1-A8AB-413B-B293-48B5D31BBCD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7056-2997-4981-A345-5B9B189447E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F474-D535-4601-9145-0572479D503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: (two settings: Long Island - her hometown; Summer house in Delaware River and Branches in Upstate New York: where Steven lived; some place by the water – Josi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ouse; Characters: Hollis, Mustard Women, Steven, The Old Man, Josie) ; Problem: Hollis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have a family (she was abandoned on p. 48); longs to belong; some issue with Steven and how she messed everything up (p. 29); Sh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starting to love Josie and to feel important in life, but Josie forgets things (Ch. 3, p. 31); The Old Man sees her strengths also as an artist.  Authors craft: reveals character through two formats (Some chapters through her journal/thoughts; and others through her interactions with other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8928-0AD6-4144-A880-FA17FC38712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B875-738F-4AB7-9C76-6AEAEF255B0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ypes of questions I am asking – these are high level questions, assumes you have read the book, but looks across bigger picture, rather than selecting isolated detai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E3E-C12C-4AD4-A675-7655B4C4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5BE-7FD1-4477-BC3B-C3BF44A8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FAD-ED3D-4965-835D-6243CF70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8EF-680F-4698-9629-3DBB0BEE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E316-E5C1-49D6-9AEC-D82C7266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8884-FE7E-49C2-8993-576B1CE7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5211-9C3F-4DF0-81D1-2755FC76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18ED-C153-4760-AEF9-7F602521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6933-D56D-4A74-8065-726D5BE5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1CB9-1A6A-4C78-B688-8034B8C6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E611-8621-4B69-8713-315E10DF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EBD-4654-4481-81DB-C3949C67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58EE-9C8E-4C5D-9887-28576431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C480-5547-4542-A430-6C15D472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8BC4-18A4-48C6-80B1-A6CBF6CA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59CA-EE2D-484C-BDB2-43C98DB4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6836-62D3-4DF5-BA90-B08CBCAB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221-9C03-4AAE-AAA4-F33C4472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111-5707-47C2-9F43-D83CBBC7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F2F-A9D7-4B4E-9C95-5645353C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23C-2AAF-4313-BFE9-D9E07011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532-DAA0-48CC-9DA3-58E1B4E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515-6FD2-4A61-8EE0-DC84CEA6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9AE-652C-4CA0-BFA8-5C9EA9F3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B42E-C2FC-4818-BB8D-F470170B0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1EDE-4210-4F7D-B6FB-124F48486B99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adingrockets.org/strategies/reciprocal_teachi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Elements of Realistic Fiction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&amp; Author</a:t>
            </a:r>
            <a:r>
              <a:rPr b="1" lang="ja-JP" sz="3600" spc="-1" strike="noStrike">
                <a:solidFill>
                  <a:srgbClr val="32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s Craft (</a:t>
            </a:r>
            <a:r>
              <a:rPr b="1" i="1" lang="en-US" sz="3600" spc="-1" strike="noStrike">
                <a:solidFill>
                  <a:srgbClr val="320000"/>
                </a:solidFill>
                <a:latin typeface="Arial"/>
              </a:rPr>
              <a:t>Hollis Woods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Guided Reading Instruction: Teaching Students to Ask and Answer Question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- 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Incorporating these discussions into guided reading Gr. 3-6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se discussions require high-level thinking; moving beyond recall and comprehension of isolated details (Who?, What?, When?)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ions between story events? How? Why? What do you think? How do these ideas reflect theme of…? 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need modeling &amp; support in how to answer &amp; eventually ask themselves questions that keep them engaged with the sto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sking Ques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uestion answer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versus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uestion generat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oth are solid strategies for supporting higher-level comprehen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ocus on the </a:t>
            </a: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of asking question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me from interest, confusion, curiosity, and a need to know &gt; teach children how to generate their own ques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Use structures like Reciprocal Teaching to help set a purpos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question, clarify, summarize, predic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ciprocal Teach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5" name="Picture 3" descr="Screen Shot 2016-11-16 at 10.45.04 P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62040"/>
            <a:ext cx="9080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Reciprocal Teach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edict &gt; Ask questions &gt; Clarify &gt; Summarize (see handout)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ry It Out: p. 50-52 (end of 2</a:t>
            </a:r>
            <a:r>
              <a:rPr b="0" lang="en-US" sz="3200" spc="-1" strike="noStrike" baseline="30000">
                <a:solidFill>
                  <a:srgbClr val="33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paragraph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Predict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you think Hollis will continue to get along with Josie in this chapter? Why/why not?</a:t>
            </a:r>
            <a:r>
              <a:rPr b="0" lang="is-I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1 Question for partner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1 Vocab word or confusing part want clarity 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ummarize main idea of se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eaching students how to ask 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and answer question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Open-ended (thick) vs. closed (thin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sk Why/How questions: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o predict, clarify meaning; understand vocabulary; locate specific info; connect; summarize; extend learning [p.187-189]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ink of our quiz questions! (not just recall, but discuss and/or apply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asiest “what question” – What’s going on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nswering Questions: </a:t>
            </a:r>
            <a:br>
              <a:rPr sz="44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Question-Answer Relationships (QAR)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y recognizing the type of question being asked, students are better able to find the answ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, they don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 spend all their time looking for answers that are not 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ight there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y learn how to generate their own high-level (or low-level) ques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on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ck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ig picture concepts)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pecific details) that guide their own think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Albert was afraid that Susan would beat him in the tennis match. The night before the match, Albert broke both of Susan</a:t>
            </a:r>
            <a:r>
              <a:rPr b="0" i="1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s racquet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IGHT THERE: When did Albert break both of Susan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NK &amp; SEARCH: Why did Albert break both of Susan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 YOUR OWN: Why was Albert afraid that Susan would beat him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HOR &amp; YOU: What does the author seem to imply about Albert in this pa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Levels of Ques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ight There: LITER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 and Search: INFERENTIAL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ead between the lines and think how info fit together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uthor and You: INFERENTI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think about author clues and formulate own opinion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n My Own: EVALUATIV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what do you think?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888480" y="6062760"/>
            <a:ext cx="125532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ITERA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 rot="16200000">
            <a:off x="1109880" y="3625560"/>
            <a:ext cx="19512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NFERENTIA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593280" y="1971720"/>
            <a:ext cx="179172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EVALUATIV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nswer questions in your handout for Vacation Under the Volcano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enerate and label your own questions using Hollis Woods, p. 55-58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QAR help (as a reader)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QAR help (as a teacher)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</a:t>
            </a:r>
            <a:r>
              <a:rPr b="1" lang="ja-JP" sz="4000" spc="-1" strike="noStrike">
                <a:solidFill>
                  <a:srgbClr val="32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Review qualities of realistic fiction and initial impressions of 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ig ideas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author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 craft in Hollis Wood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Discuss/apply methods for using questioning to promot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iscuss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onvers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Ch. 7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ciprocal Teaching (Asking Question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 Answer Relationships (QAR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ing the Author (QtA) in your book onl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. Explain homework assignmen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Keep these elements in mind as you continue reading….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ory element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structure your response (and story clues to back up with evidenc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ting/Context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acters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blem/Resolution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y steps toward addressing that proble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theme/author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uthor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 craft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r Tuesday, Nov. 16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rnett (Ch. 7 p. 195-215: Discussions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tinue reading Hollis Woods (pp. 50-100) &amp; filling out summary shee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ing up: Hollis Woods Guided Reading Plan (due Tues. Nov. 28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y read Realistic Fic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arrative stories grounded in reality with believable characters, situations, and setting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Reflects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contemporary life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; takes place in familiar settings; and presents common situations with which the reader can identify 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Protagonists face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real-life problems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(abuse, drugs, disability, death) and mature from the life experience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Very popular genre (book and authors have won many awards – e.g. Newbury Medal)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ypes of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ecoming One’s Own Pers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ransition from child and growing into an adul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llenging relationships, transitions, struggles with human issues such as friendship, love, or acceptance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ping with Problems of the Human Condi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physical/emotional challenges and ag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ving In A Diverse World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acial, ethnic, cultural diversity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or Kid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mily stories, school stories, animal stories, adventure/survival stories, humorous stories, mysteries, serious stor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417560" y="6324480"/>
            <a:ext cx="39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eifer, Hickman, &amp; Hepler (2007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ality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istics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good story that engages readers to care about the outcom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**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racter developme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forms an integral part of the sto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volves a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llenging situ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quiring problem solving or refle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s left with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optimistic messag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hat problems can be overcome and people have control over their live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eep in mind as you read and reflect on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Hollis Woods (useful for guiding the questions you ask and sections you focus on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ality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enefit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(with effective instruction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Readers gain new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insights into themselves and peers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in the context of realistic relationships and problems we face in our lives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Presents a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model of confronting life experiences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where the reader can serve as a spectator (watch reality, from a safe distance, as opposed to escaping from it with fantasy) 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Depicts life in other cultures, geographic or economic regions which fosters a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broader view of the world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What’s the best way to sum up the big ideas in narrative texts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ory element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structure your response (and story clues/quotes to back up with evidenc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ting/Context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acters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blem/Resolution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y steps toward addressing that proble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theme/author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uthor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 craft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uthor</a:t>
            </a:r>
            <a:r>
              <a:rPr b="1" lang="ja-JP" sz="4400" spc="-1" strike="noStrike">
                <a:solidFill>
                  <a:srgbClr val="32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 Craf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ools and techniques of language and storytelling that an author uses to craft a story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Narrative elements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setting, theme, &amp;  characterization – how authors convey information about these elements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Literary Devices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alliteration, allusion, metaphor, parallel structure, simile, etc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onnecting to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er to your Author</a:t>
            </a:r>
            <a:r>
              <a:rPr b="1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 Craft char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rong Character Development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allenging Situation requiring problem solving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ints of an Optimistic Me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ew insights into relationships or broader range of experience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resting patterns you are noticing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You might craft your comprehension questions around these categories.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24:01Z</dcterms:created>
  <dc:creator>Julie Coiro</dc:creator>
  <dc:description/>
  <dc:language>en-US</dc:language>
  <cp:lastModifiedBy>Julie Coiro</cp:lastModifiedBy>
  <cp:lastPrinted>2011-10-31T16:57:53Z</cp:lastPrinted>
  <dcterms:modified xsi:type="dcterms:W3CDTF">2017-11-16T03:11:26Z</dcterms:modified>
  <cp:revision>382</cp:revision>
  <dc:subject/>
  <dc:title>Metacognitive Strategy Instruction to Enhance Reading Comprehension</dc:title>
</cp:coreProperties>
</file>